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E201-BF7F-4B39-8A4D-752A1E120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030F-AF09-4EDE-A151-E4652151E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1103-EAFD-4752-937C-6B736CFE2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496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412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0496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412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E736-1675-476E-B21B-920952E48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1C75E-428A-4928-A645-115E1B1E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7119-1018-4A8A-BFE2-E3F4EF86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D6669-5341-4D02-B097-DE42DD4D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FB717-BB1A-4DF8-9A82-E7B640FE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4D642-6DDF-4E7E-AA0A-1186C40A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440" y="-215640"/>
            <a:ext cx="84582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34982-AEBF-4957-8513-D4835600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0A3E6-0B5A-4649-BB0B-0F450C3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A92D-B591-4EE6-8192-2F8C5945D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47B41-6A36-428B-8F94-D40F92C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5F1A9-ED6F-438B-9B0E-74661AA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80EEB-B4F5-47DA-8FE2-2CB30F73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F4B5B-B462-49CD-80CB-D295B7BE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496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24120" y="137160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496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24120" y="3998520"/>
            <a:ext cx="26845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92E7E-24E5-422C-9AC3-92245644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42EF-2502-4FC0-8971-0B7F2B547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2B5A-88F3-4713-974B-02FD0FD47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A024-934E-47C5-A2F8-2AD8D3383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440" y="-215640"/>
            <a:ext cx="84582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1396-FF01-46F3-AF83-7D3B42735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F0AC-40DB-40CD-BF6E-09E4E7181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8280" y="399852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449C-37EA-4AB3-B274-5BFC5B540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58280" y="1371600"/>
            <a:ext cx="406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520"/>
            <a:ext cx="8337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43D7-B34E-4CEE-8617-37407E0F9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-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9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1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3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6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8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11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3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6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68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1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673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825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978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130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2827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435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587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739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892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044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197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349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3502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654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807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959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4111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4264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4416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45687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4721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4873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5025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5178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5330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5483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5635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788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940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093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245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97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0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2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47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074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596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19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46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168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691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18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40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63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790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312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8356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36200" y="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8848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1120" y="-936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6950160" cy="745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-215640"/>
            <a:ext cx="8458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1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F56-6B46-43E5-AAE2-ABEE3696B6FB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2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3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1051-D67A-4C51-B7E0-F64AFFADFFFD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400" y="727560"/>
            <a:ext cx="7678800" cy="18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003366"/>
                </a:solidFill>
                <a:latin typeface="Verdana"/>
              </a:rPr>
              <a:t>Prácticas de Estadística</a:t>
            </a:r>
            <a:endParaRPr b="0" lang="en-US" sz="5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57400" y="4190760"/>
            <a:ext cx="556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Correlación y Regres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ero’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00400" y="30481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00"/>
                </a:solidFill>
                <a:latin typeface="Verdana"/>
              </a:rPr>
              <a:t>SPSS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99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5767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Validación Recta de Regresión (iii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15004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é significa varianza c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arianza cte (homocedasticida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arianza no cte (heterocedasticida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40384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67057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295280" y="4495680"/>
            <a:ext cx="3886200" cy="181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662120" y="5638680"/>
            <a:ext cx="838080" cy="914040"/>
            <a:chOff x="1662120" y="5638680"/>
            <a:chExt cx="838080" cy="914040"/>
          </a:xfrm>
        </p:grpSpPr>
        <p:sp>
          <p:nvSpPr>
            <p:cNvPr id="314" name=""/>
            <p:cNvSpPr/>
            <p:nvPr/>
          </p:nvSpPr>
          <p:spPr>
            <a:xfrm rot="5400000">
              <a:off x="1847520" y="5452920"/>
              <a:ext cx="466920" cy="83808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847520" y="5900040"/>
              <a:ext cx="466920" cy="83808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885840" y="4267080"/>
            <a:ext cx="498600" cy="1769760"/>
            <a:chOff x="3885840" y="4267080"/>
            <a:chExt cx="498600" cy="1769760"/>
          </a:xfrm>
        </p:grpSpPr>
        <p:sp>
          <p:nvSpPr>
            <p:cNvPr id="317" name=""/>
            <p:cNvSpPr/>
            <p:nvPr/>
          </p:nvSpPr>
          <p:spPr>
            <a:xfrm rot="5400000">
              <a:off x="3683160" y="4469760"/>
              <a:ext cx="903960" cy="49860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rot="5400000">
              <a:off x="3682800" y="5335560"/>
              <a:ext cx="903960" cy="49860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836440" y="4859280"/>
            <a:ext cx="646200" cy="1388880"/>
            <a:chOff x="2836440" y="4859280"/>
            <a:chExt cx="646200" cy="1388880"/>
          </a:xfrm>
        </p:grpSpPr>
        <p:sp>
          <p:nvSpPr>
            <p:cNvPr id="320" name=""/>
            <p:cNvSpPr/>
            <p:nvPr/>
          </p:nvSpPr>
          <p:spPr>
            <a:xfrm rot="5400000">
              <a:off x="2804760" y="4890600"/>
              <a:ext cx="709200" cy="64620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rot="5400000">
              <a:off x="2804400" y="5570280"/>
              <a:ext cx="709200" cy="64620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641600" y="4938840"/>
            <a:ext cx="0" cy="18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4038480"/>
            <a:ext cx="0" cy="27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455760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46280" y="5783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46280" y="585612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33560" y="599904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74640" y="61437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01920" y="635940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46280" y="635940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43200" y="491508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50594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513072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52754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87560" y="52023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570708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87560" y="57070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59943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72080" y="421956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72080" y="45086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14640" y="4508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72080" y="4940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72080" y="5156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14640" y="5156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43360" y="5372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43360" y="58039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42080" y="42670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32240" y="54100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15120" y="51048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537160" y="5257800"/>
            <a:ext cx="228600" cy="380880"/>
            <a:chOff x="5537160" y="5257800"/>
            <a:chExt cx="228600" cy="380880"/>
          </a:xfrm>
        </p:grpSpPr>
        <p:sp>
          <p:nvSpPr>
            <p:cNvPr id="351" name=""/>
            <p:cNvSpPr/>
            <p:nvPr/>
          </p:nvSpPr>
          <p:spPr>
            <a:xfrm>
              <a:off x="5651640" y="52578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37160" y="52578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37160" y="5638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918040" y="5181480"/>
            <a:ext cx="228600" cy="533160"/>
            <a:chOff x="5918040" y="5181480"/>
            <a:chExt cx="228600" cy="533160"/>
          </a:xfrm>
        </p:grpSpPr>
        <p:sp>
          <p:nvSpPr>
            <p:cNvPr id="355" name=""/>
            <p:cNvSpPr/>
            <p:nvPr/>
          </p:nvSpPr>
          <p:spPr>
            <a:xfrm>
              <a:off x="6032520" y="51814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18040" y="51814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18040" y="5714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299280" y="5029200"/>
            <a:ext cx="228600" cy="837360"/>
            <a:chOff x="6299280" y="5029200"/>
            <a:chExt cx="228600" cy="837360"/>
          </a:xfrm>
        </p:grpSpPr>
        <p:sp>
          <p:nvSpPr>
            <p:cNvPr id="359" name=""/>
            <p:cNvSpPr/>
            <p:nvPr/>
          </p:nvSpPr>
          <p:spPr>
            <a:xfrm>
              <a:off x="6413760" y="5029200"/>
              <a:ext cx="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99280" y="50292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99280" y="58665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756480" y="4952880"/>
            <a:ext cx="228600" cy="1142280"/>
            <a:chOff x="6756480" y="4952880"/>
            <a:chExt cx="228600" cy="1142280"/>
          </a:xfrm>
        </p:grpSpPr>
        <p:sp>
          <p:nvSpPr>
            <p:cNvPr id="363" name=""/>
            <p:cNvSpPr/>
            <p:nvPr/>
          </p:nvSpPr>
          <p:spPr>
            <a:xfrm>
              <a:off x="6870960" y="4952880"/>
              <a:ext cx="0" cy="114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56480" y="4952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56480" y="6095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289640" y="4800600"/>
            <a:ext cx="152640" cy="1598760"/>
            <a:chOff x="7289640" y="4800600"/>
            <a:chExt cx="152640" cy="1598760"/>
          </a:xfrm>
        </p:grpSpPr>
        <p:sp>
          <p:nvSpPr>
            <p:cNvPr id="367" name=""/>
            <p:cNvSpPr/>
            <p:nvPr/>
          </p:nvSpPr>
          <p:spPr>
            <a:xfrm>
              <a:off x="7365960" y="4800600"/>
              <a:ext cx="0" cy="159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89640" y="4800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89640" y="6399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99480" y="4648320"/>
            <a:ext cx="228600" cy="1827360"/>
            <a:chOff x="7899480" y="4648320"/>
            <a:chExt cx="228600" cy="1827360"/>
          </a:xfrm>
        </p:grpSpPr>
        <p:sp>
          <p:nvSpPr>
            <p:cNvPr id="371" name=""/>
            <p:cNvSpPr/>
            <p:nvPr/>
          </p:nvSpPr>
          <p:spPr>
            <a:xfrm>
              <a:off x="8013960" y="4648320"/>
              <a:ext cx="0" cy="18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99480" y="4648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99480" y="6475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486640" y="5409360"/>
            <a:ext cx="275040" cy="452520"/>
            <a:chOff x="8486640" y="5409360"/>
            <a:chExt cx="275040" cy="452520"/>
          </a:xfrm>
        </p:grpSpPr>
        <p:sp>
          <p:nvSpPr>
            <p:cNvPr id="375" name=""/>
            <p:cNvSpPr/>
            <p:nvPr/>
          </p:nvSpPr>
          <p:spPr>
            <a:xfrm>
              <a:off x="8486640" y="5493600"/>
              <a:ext cx="2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87720" y="540936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^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497560" y="52801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13560" y="535140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29200" y="535140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73920" y="5567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73920" y="52070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89560" y="506412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34280" y="5783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5560" y="5567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21560" y="57117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92840" y="506412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7200" y="599904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7200" y="56386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53200" y="520704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24840" y="57117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97560" y="628812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69200" y="477504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42280" y="54230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13560" y="621504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8280" y="491976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29560" y="54957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29560" y="599904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73920" y="47037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16840" y="599904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45560" y="64310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62480" y="4170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538520" y="4647600"/>
            <a:ext cx="275040" cy="452160"/>
            <a:chOff x="4538520" y="4647600"/>
            <a:chExt cx="275040" cy="452160"/>
          </a:xfrm>
        </p:grpSpPr>
        <p:sp>
          <p:nvSpPr>
            <p:cNvPr id="403" name=""/>
            <p:cNvSpPr/>
            <p:nvPr/>
          </p:nvSpPr>
          <p:spPr>
            <a:xfrm>
              <a:off x="4538520" y="4731480"/>
              <a:ext cx="2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39600" y="46476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^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83952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8000" y="6521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1676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814040" y="2511360"/>
            <a:ext cx="838440" cy="914040"/>
            <a:chOff x="1814040" y="2511360"/>
            <a:chExt cx="838440" cy="914040"/>
          </a:xfrm>
        </p:grpSpPr>
        <p:sp>
          <p:nvSpPr>
            <p:cNvPr id="409" name=""/>
            <p:cNvSpPr/>
            <p:nvPr/>
          </p:nvSpPr>
          <p:spPr>
            <a:xfrm rot="5400000">
              <a:off x="1999800" y="2325600"/>
              <a:ext cx="466920" cy="83844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rot="5400000">
              <a:off x="1999440" y="2772720"/>
              <a:ext cx="466920" cy="83844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793880" y="22827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98560" y="265572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98560" y="272880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57520" y="3049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28926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968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98560" y="32320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895120" y="2435400"/>
            <a:ext cx="838440" cy="914040"/>
            <a:chOff x="2895120" y="2435400"/>
            <a:chExt cx="838440" cy="914040"/>
          </a:xfrm>
        </p:grpSpPr>
        <p:sp>
          <p:nvSpPr>
            <p:cNvPr id="419" name=""/>
            <p:cNvSpPr/>
            <p:nvPr/>
          </p:nvSpPr>
          <p:spPr>
            <a:xfrm rot="5400000">
              <a:off x="3080880" y="2249640"/>
              <a:ext cx="466920" cy="83844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5400000">
              <a:off x="3080520" y="2696760"/>
              <a:ext cx="466920" cy="83844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879640" y="25797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79640" y="265284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38600" y="297324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33560" y="28162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33560" y="28926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79640" y="315612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38120" y="2282760"/>
            <a:ext cx="838440" cy="914040"/>
            <a:chOff x="4038120" y="2282760"/>
            <a:chExt cx="838440" cy="914040"/>
          </a:xfrm>
        </p:grpSpPr>
        <p:sp>
          <p:nvSpPr>
            <p:cNvPr id="428" name=""/>
            <p:cNvSpPr/>
            <p:nvPr/>
          </p:nvSpPr>
          <p:spPr>
            <a:xfrm rot="5400000">
              <a:off x="4223880" y="2097000"/>
              <a:ext cx="466920" cy="83844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rot="5400000">
              <a:off x="4223520" y="2544120"/>
              <a:ext cx="466920" cy="838440"/>
            </a:xfrm>
            <a:custGeom>
              <a:avLst/>
              <a:gdLst/>
              <a:ahLst/>
              <a:rect l="l" t="t" r="r" b="b"/>
              <a:pathLst>
                <a:path w="1152" h="1008">
                  <a:moveTo>
                    <a:pt x="0" y="1008"/>
                  </a:moveTo>
                  <a:cubicBezTo>
                    <a:pt x="120" y="1008"/>
                    <a:pt x="240" y="1008"/>
                    <a:pt x="384" y="864"/>
                  </a:cubicBezTo>
                  <a:cubicBezTo>
                    <a:pt x="528" y="720"/>
                    <a:pt x="736" y="288"/>
                    <a:pt x="864" y="144"/>
                  </a:cubicBezTo>
                  <a:cubicBezTo>
                    <a:pt x="992" y="0"/>
                    <a:pt x="1072" y="0"/>
                    <a:pt x="115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022640" y="242712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22640" y="250020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81600" y="28209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76560" y="26640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76560" y="27399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022640" y="30034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295280" y="2587320"/>
            <a:ext cx="381024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5020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785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69040" y="2898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51560" y="2593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435720" y="2517840"/>
            <a:ext cx="228600" cy="837360"/>
            <a:chOff x="6435720" y="2517840"/>
            <a:chExt cx="228600" cy="837360"/>
          </a:xfrm>
        </p:grpSpPr>
        <p:sp>
          <p:nvSpPr>
            <p:cNvPr id="444" name=""/>
            <p:cNvSpPr/>
            <p:nvPr/>
          </p:nvSpPr>
          <p:spPr>
            <a:xfrm>
              <a:off x="6550200" y="2517840"/>
              <a:ext cx="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35720" y="25178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35720" y="33552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8623080" y="2898000"/>
            <a:ext cx="275040" cy="452520"/>
            <a:chOff x="8623080" y="2898000"/>
            <a:chExt cx="275040" cy="452520"/>
          </a:xfrm>
        </p:grpSpPr>
        <p:sp>
          <p:nvSpPr>
            <p:cNvPr id="448" name=""/>
            <p:cNvSpPr/>
            <p:nvPr/>
          </p:nvSpPr>
          <p:spPr>
            <a:xfrm>
              <a:off x="8623080" y="2982240"/>
              <a:ext cx="2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24160" y="28980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^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634000" y="27687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50000" y="28400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66000" y="28400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305604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10360" y="269568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26360" y="255276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70720" y="32716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42000" y="305604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0" y="3200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29280" y="25527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3200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74000" y="312732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89640" y="26956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61280" y="3200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259092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26668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78720" y="291132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010280" y="27432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48720" y="3200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866000" y="298440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001000" y="31240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05720" y="26668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01000" y="28195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001000" y="25909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40480" y="21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934320" y="2514600"/>
            <a:ext cx="228600" cy="837360"/>
            <a:chOff x="6934320" y="2514600"/>
            <a:chExt cx="228600" cy="837360"/>
          </a:xfrm>
        </p:grpSpPr>
        <p:sp>
          <p:nvSpPr>
            <p:cNvPr id="476" name=""/>
            <p:cNvSpPr/>
            <p:nvPr/>
          </p:nvSpPr>
          <p:spPr>
            <a:xfrm>
              <a:off x="7048800" y="2514600"/>
              <a:ext cx="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34320" y="2514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34320" y="33519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391520" y="2514600"/>
            <a:ext cx="228600" cy="837360"/>
            <a:chOff x="7391520" y="2514600"/>
            <a:chExt cx="228600" cy="837360"/>
          </a:xfrm>
        </p:grpSpPr>
        <p:sp>
          <p:nvSpPr>
            <p:cNvPr id="480" name=""/>
            <p:cNvSpPr/>
            <p:nvPr/>
          </p:nvSpPr>
          <p:spPr>
            <a:xfrm>
              <a:off x="7506000" y="2514600"/>
              <a:ext cx="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91520" y="2514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91520" y="33519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924680" y="2514600"/>
            <a:ext cx="228600" cy="837360"/>
            <a:chOff x="7924680" y="2514600"/>
            <a:chExt cx="228600" cy="837360"/>
          </a:xfrm>
        </p:grpSpPr>
        <p:sp>
          <p:nvSpPr>
            <p:cNvPr id="484" name=""/>
            <p:cNvSpPr/>
            <p:nvPr/>
          </p:nvSpPr>
          <p:spPr>
            <a:xfrm>
              <a:off x="8039160" y="2514600"/>
              <a:ext cx="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24680" y="2514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24680" y="33519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019920" y="2514600"/>
            <a:ext cx="228600" cy="837360"/>
            <a:chOff x="6019920" y="2514600"/>
            <a:chExt cx="228600" cy="837360"/>
          </a:xfrm>
        </p:grpSpPr>
        <p:sp>
          <p:nvSpPr>
            <p:cNvPr id="488" name=""/>
            <p:cNvSpPr/>
            <p:nvPr/>
          </p:nvSpPr>
          <p:spPr>
            <a:xfrm>
              <a:off x="6134400" y="2514600"/>
              <a:ext cx="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2514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33519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562720" y="2514600"/>
            <a:ext cx="228600" cy="837360"/>
            <a:chOff x="5562720" y="2514600"/>
            <a:chExt cx="228600" cy="837360"/>
          </a:xfrm>
        </p:grpSpPr>
        <p:sp>
          <p:nvSpPr>
            <p:cNvPr id="492" name=""/>
            <p:cNvSpPr/>
            <p:nvPr/>
          </p:nvSpPr>
          <p:spPr>
            <a:xfrm>
              <a:off x="5677200" y="2514600"/>
              <a:ext cx="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720" y="2514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62720" y="33519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638680" y="31240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91320" y="30481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00920" y="25909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9180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934320" y="1828800"/>
            <a:ext cx="167616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5767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Validación Recta de Regresión (iv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15004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Hay que realizar dos grá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Verdana"/>
              </a:rPr>
              <a:t>Analizar/Regresión/Lineal  botón Gráficos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áfico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Y: Valores tipificados de los residuos (*ZRES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X: Valores pronosticados tipificados (*ZPR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5999" t="16670" r="42000" b="43338"/>
          <a:stretch/>
        </p:blipFill>
        <p:spPr>
          <a:xfrm>
            <a:off x="2514600" y="335268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133720" y="5867280"/>
            <a:ext cx="546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Gráficos de residuos tipificado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rebuchet MS"/>
              </a:rPr>
              <a:t>Gráfico de prob. n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6934320" y="5257800"/>
            <a:ext cx="1904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858000" y="3595680"/>
            <a:ext cx="198108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71200" y="53100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Ej</a:t>
            </a: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emplo 1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038480" y="1695600"/>
            <a:ext cx="2444760" cy="230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3324240" cy="23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1143000" y="1676520"/>
            <a:ext cx="2819520" cy="233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0" name=""/>
          <p:cNvSpPr/>
          <p:nvPr/>
        </p:nvSpPr>
        <p:spPr>
          <a:xfrm>
            <a:off x="6705720" y="1905120"/>
            <a:ext cx="2209680" cy="146556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Histograma de Residu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Los residuos deben ajustarse a una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4114800"/>
            <a:ext cx="3962520" cy="146556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. Linealidad entre variables e igualdad de varianzas: Residuos fluctuán alrededor del 0 y variabilidad  de los residuos más o menos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5791320"/>
            <a:ext cx="4191120" cy="520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urva obtenida vá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59148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Ejemplo 2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358164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81916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3581640" cy="24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4876920" y="4952880"/>
            <a:ext cx="3673440" cy="1556280"/>
          </a:xfrm>
          <a:prstGeom prst="rect">
            <a:avLst/>
          </a:prstGeom>
          <a:solidFill>
            <a:srgbClr val="ff00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te caso no se debería utilizar la curva obten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Correl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57120" y="12949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Gráfico de disp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Verdana"/>
              </a:rPr>
              <a:t>Gráficos/Dispersión/Sim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 y: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1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 x: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tablecer marcas por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: pes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532320" cy="28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4572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Correlación (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Gráfico de dispers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tervalos de predi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l Editor de Gráficos: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iseño/Op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14002" t="3333" r="0" b="20670"/>
          <a:stretch/>
        </p:blipFill>
        <p:spPr>
          <a:xfrm>
            <a:off x="1447920" y="2286000"/>
            <a:ext cx="6553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057400" y="4946760"/>
            <a:ext cx="5303880" cy="1911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Regresión Line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egresión Lineal Múlt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Verdana"/>
              </a:rPr>
              <a:t>Analizar/Regresión/Lin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r la recta de regresión de Y (consumo a 120 km/h) sobre X1 (potencia) y X2 (velocidad máxi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pendiente: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1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dependiente: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otencia y velocidad máx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457200" cy="341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219800" y="6248520"/>
            <a:ext cx="16588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No Signific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6019920"/>
            <a:ext cx="761760" cy="609480"/>
          </a:xfrm>
          <a:prstGeom prst="ellipse">
            <a:avLst/>
          </a:prstGeom>
          <a:noFill/>
          <a:ln w="2844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604960" y="3902040"/>
            <a:ext cx="3932280" cy="1279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629400" y="632448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Regresión Lineal (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rrelación entre variables del mode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Verdana"/>
              </a:rPr>
              <a:t>Gráficos/Dispersión/Matri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riables en la matriz: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120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velocidad máx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981080" y="2935440"/>
            <a:ext cx="490392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Regresión Lineal (i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rrelación entre variables del mode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Verdana"/>
              </a:rPr>
              <a:t>Analizar/Correlaciones/Bivari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riables: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120, potencia y velocidad máx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5334120"/>
            <a:ext cx="71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 sig&lt;0,05, correlación sign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l ejemplo, existe correlación significativa entre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120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velocidad máxim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120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y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velocidad máxim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55880" y="2752560"/>
            <a:ext cx="52308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45468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Regresión Lineal (iv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33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gresión Lineal Simple de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cons120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obre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cons120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obre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velocidad máx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s120 vs poten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s120 vs velocidad máx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28600" y="5284800"/>
            <a:ext cx="3932280" cy="111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992400" y="5008680"/>
            <a:ext cx="5303880" cy="177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191120" y="2798640"/>
            <a:ext cx="5056200" cy="1773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228600" y="3027240"/>
            <a:ext cx="3932280" cy="1116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523880" y="4572000"/>
            <a:ext cx="457200" cy="341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2280" y="2743200"/>
            <a:ext cx="8915400" cy="175248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46280" y="4038480"/>
            <a:ext cx="13618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y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3809880"/>
            <a:ext cx="152640" cy="3812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58200" y="3733920"/>
            <a:ext cx="457200" cy="6094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44440" y="4572000"/>
            <a:ext cx="1275120" cy="307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Signific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10480" y="4267080"/>
            <a:ext cx="152640" cy="3812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5767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Validación Recta de Regresió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15004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ienen que cumplirse dos condicion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rmalidad de los residu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el gráfico de prob normal los los valores de los residuos tipificados deben estar sobre la rect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inealidad entre variables y varianza c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190512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52680" y="5105520"/>
            <a:ext cx="198144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5155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Validación Recta de Regresión</a:t>
            </a: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(ii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15004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é significa una relación lineal entre varia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neal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o lineal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32767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25480" y="21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83320" y="6324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962520" y="21333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4038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267080" y="259092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34290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26668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57920" y="31240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10200" y="32767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86520" y="29718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8800" y="30481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3526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7400" y="28954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27432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05480" y="25146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29520" y="27432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57150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37160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6477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676520" y="5029200"/>
            <a:ext cx="2438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9800" y="58672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48006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58672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8672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46483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57913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57913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54100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56386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14920" y="49528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51814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4343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181480" y="4572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6477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410080" y="4343400"/>
            <a:ext cx="3048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64008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53341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61722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2400" y="47242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29400" y="60199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63244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586728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510552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96080" y="487692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38880" y="556272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640080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91080" y="640548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55674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18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44800" y="4572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16640" y="3854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3440" y="6292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2:40:29Z</dcterms:created>
  <dc:creator>eviles</dc:creator>
  <dc:description/>
  <dc:language>en-US</dc:language>
  <cp:lastModifiedBy>iricondo</cp:lastModifiedBy>
  <cp:lastPrinted>2004-01-13T11:02:42Z</cp:lastPrinted>
  <dcterms:modified xsi:type="dcterms:W3CDTF">2004-01-13T11:05:22Z</dcterms:modified>
  <cp:revision>83</cp:revision>
  <dc:subject/>
  <dc:title>Tema 6. Estadística Descriptiva e Introducción a la Inferencia Estadística </dc:title>
</cp:coreProperties>
</file>